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49A2-9124-4C47-A112-BC63B69F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EC7D-79E0-4D7B-9118-686E0628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3C81-EBC4-4DA5-991C-4EAF6FF1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E3A5-AFDC-4081-B515-3AB18FD6B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05F4-7938-4C8D-8061-C24033D0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26DA-E16F-4D45-A591-E3BAE23A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AE7D-0FC2-45BF-BEC4-6678EC6A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95B0-3AF2-4CA1-BBA6-35A3A245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F631-4141-491F-96AC-16680E5C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2802-59C9-4398-83A3-2DDE1435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8C4A-EF56-4A77-AD5F-7362BE50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7794-10FD-4A0F-BA0A-C758C447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5564-8355-4061-86D5-3B4DF72FB2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«Кое» прое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Цилиндр» темасы буенча эшлекле у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Arial"/>
              </a:rPr>
              <a:t>Проектлау б</a:t>
            </a:r>
            <a:r>
              <a:rPr b="1" i="1" lang="tt-RU" sz="4400" spc="-1" strike="noStrike">
                <a:solidFill>
                  <a:srgbClr val="660066"/>
                </a:solidFill>
                <a:latin typeface="Arial"/>
              </a:rPr>
              <a:t>үлег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8600" y="837720"/>
            <a:ext cx="6019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аметры 80 см һәм  тирәнлеге  25 м   булган кое казырга, ә искесен   күмәргә кирәк .  Әгәр иске коеның диаметры 1м, ә тирәнлеге 16 м булса , яңа коедан чыккан туфрак искесен күмәр өчен җитәрм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Әгәр, һәр атна саен су сибү өчен күчәр кисеме 2м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һәм диаметры 2метрга тигез булган ц</a:t>
            </a: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илиндр формасындагы тәпәнне су белән тутырырга кирәк булса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бакчада   3 айлык  (12 </a:t>
            </a: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атн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, су чыгымын исәпләргә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Атна саен 10 м</a:t>
            </a:r>
            <a:r>
              <a:rPr b="1" lang="tt-RU" sz="2000" spc="-1" strike="noStrike" baseline="30000">
                <a:solidFill>
                  <a:srgbClr val="000000"/>
                </a:solidFill>
                <a:latin typeface="Arial"/>
              </a:rPr>
              <a:t>3  </a:t>
            </a: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суның көндәлек кирәк- яракларга китүен дә исәпкә алырга кирәк. Әгәр 1 м</a:t>
            </a:r>
            <a:r>
              <a:rPr b="1" lang="tt-RU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 су – 23.5 сум торса, гаиләнең бер сезонга су өчен күпме акча тотуын исәпләрг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C:\Users\админ\Desktop\Новая папка (6)\kolodets-stat-2-3.jpg"/>
          <p:cNvPicPr/>
          <p:nvPr/>
        </p:nvPicPr>
        <p:blipFill>
          <a:blip r:embed="rId1"/>
          <a:srcRect l="8003" t="0" r="12000" b="0"/>
          <a:stretch/>
        </p:blipFill>
        <p:spPr>
          <a:xfrm>
            <a:off x="6095880" y="3657600"/>
            <a:ext cx="3048120" cy="3200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C:\Users\админ\Desktop\Новая папка (6)\nakopitelniy_bak_dlya_vody_.jpg"/>
          <p:cNvPicPr/>
          <p:nvPr/>
        </p:nvPicPr>
        <p:blipFill>
          <a:blip r:embed="rId2"/>
          <a:stretch/>
        </p:blipFill>
        <p:spPr>
          <a:xfrm>
            <a:off x="6019920" y="685800"/>
            <a:ext cx="312408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Икътисад  бүлег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4560" y="1066320"/>
            <a:ext cx="60195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Гаиләг</a:t>
            </a: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ә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 яңа кое казу һәм аны  дек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ратив бизәү ничә сумга төшүен санарга: әгәр </a:t>
            </a: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коеның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  диаметры 0,8 м</a:t>
            </a: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,  тирәнлеге 25 м булган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1 метр скважина казу  500 сум торуын и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әпкә алырга</a:t>
            </a: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екоратив бизәкләү: цилиндр формасын-дагы коеның тышкы ягын</a:t>
            </a: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ың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 биеклеге 1 метр бу</a:t>
            </a: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ган өлешне</a:t>
            </a: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ң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 размеры 0,15 х 0,15 метр</a:t>
            </a: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 зурлыгындагы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 берсе 50 сум торган плитка </a:t>
            </a: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ябыштырырг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Кое кырыйлап киңлеге 1 метр булган юл-ның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 размерлары 0,25 х 0,25 метр,  берсе 70 сум торган плитка белән эшләп чыгу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оены агач белән эшләү өчен 3000 сум кирәклеген дә исәпләргә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өзү материалларының кыйммәтен  исәпкә  алыр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админ\Desktop\Новая папка (6)\05.jpg"/>
          <p:cNvPicPr/>
          <p:nvPr/>
        </p:nvPicPr>
        <p:blipFill>
          <a:blip r:embed="rId1"/>
          <a:srcRect l="20835" t="9288" r="22500" b="0"/>
          <a:stretch/>
        </p:blipFill>
        <p:spPr>
          <a:xfrm>
            <a:off x="6400800" y="1066680"/>
            <a:ext cx="27432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Монтаж-транспорт бүлег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560" y="152352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е казу өчен чыгымнарны исәпләү: (таблиц</a:t>
            </a:r>
            <a:r>
              <a:rPr b="1" lang="tt-RU" sz="2800" spc="-1" strike="noStrike">
                <a:solidFill>
                  <a:srgbClr val="000000"/>
                </a:solidFill>
                <a:latin typeface="Arial"/>
              </a:rPr>
              <a:t>а буенча кирәкле фирманы табу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өзү материаллары сатып алу, алып кайту һәм җыю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еның  размерлары : диаметры- 0,8 метр ,  тирәнлеге- 25 метр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уфракның үзенчәлеге:  7 метрга кадәр көпшәк туфрак. Аларны бетон боҗралар белән ныгытырга һәм җир өслегенннән 1 метр биеклектә декоратив бизәү өлешенә дә боҗра кирәклеген онытмаска кирәк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Табл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04920" y="1600200"/>
          <a:ext cx="8839080" cy="5172120"/>
        </p:xfrm>
        <a:graphic>
          <a:graphicData uri="http://schemas.openxmlformats.org/drawingml/2006/table">
            <a:tbl>
              <a:tblPr/>
              <a:tblGrid>
                <a:gridCol w="1241280"/>
                <a:gridCol w="1239840"/>
                <a:gridCol w="1241280"/>
                <a:gridCol w="1241640"/>
                <a:gridCol w="1241280"/>
                <a:gridCol w="1239840"/>
                <a:gridCol w="1393920"/>
              </a:tblGrid>
              <a:tr h="100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җра размеры  (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оҗра бәясе (сумнарда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ашинага сыйган боҗралар са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өяү һәм бушату (сумнарда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оҗраны монтажлау бәясе (сумнарда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Өстәмә шартлар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</a:tr>
              <a:tr h="752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х1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</a:tr>
              <a:tr h="685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х1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</a:tr>
              <a:tr h="2733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х1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 сумнан артса    һәр 3 нче машинаны төяү һәм бушату бушла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Үзеңнең мөмкинлекләреңне бәялә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1. Бүген дәрестә мин.......... белдем</a:t>
            </a: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2. Миңа …      охша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3.  …       авыр бул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әзер мин…     ал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 Дәрес миңа …    бир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>
                <a:solidFill>
                  <a:srgbClr val="7030a0"/>
                </a:solidFill>
                <a:latin typeface="Arial"/>
              </a:rPr>
              <a:t>Өй эш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85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батларга</a:t>
            </a: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63-164бит, 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.77, 178бит, сорау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Эшләргә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669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5 бит)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745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0 бит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C:\Users\админ\Desktop\Новая папка (6)\0a1713744fa00bee6bfc9cff0f01225a.jpeg"/>
          <p:cNvPicPr/>
          <p:nvPr/>
        </p:nvPicPr>
        <p:blipFill>
          <a:blip r:embed="rId1"/>
          <a:stretch/>
        </p:blipFill>
        <p:spPr>
          <a:xfrm>
            <a:off x="304920" y="1523880"/>
            <a:ext cx="39322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2060"/>
                </a:solidFill>
                <a:latin typeface="Arial"/>
              </a:rPr>
              <a:t>Үзеңнең кәефеңне бәялә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RmIdoTUiDVc"/>
          <p:cNvPicPr/>
          <p:nvPr/>
        </p:nvPicPr>
        <p:blipFill>
          <a:blip r:embed="rId1"/>
          <a:stretch/>
        </p:blipFill>
        <p:spPr>
          <a:xfrm>
            <a:off x="1547640" y="1600200"/>
            <a:ext cx="6048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кырга да укырга әле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C:\Users\админ\Desktop\Новая папка (6)\98417083634dd2a8a858dbc5d349e54a0976a6ba26_b - копия.jpg"/>
          <p:cNvPicPr/>
          <p:nvPr/>
        </p:nvPicPr>
        <p:blipFill>
          <a:blip r:embed="rId1"/>
          <a:stretch/>
        </p:blipFill>
        <p:spPr>
          <a:xfrm>
            <a:off x="380880" y="1600200"/>
            <a:ext cx="762120" cy="88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:\Users\админ\Desktop\Новая папка (6)\98417083634dd2a8a858dbc5d349e54a0976a6ba26_b - копия (3).jpg"/>
          <p:cNvPicPr/>
          <p:nvPr/>
        </p:nvPicPr>
        <p:blipFill>
          <a:blip r:embed="rId2"/>
          <a:stretch/>
        </p:blipFill>
        <p:spPr>
          <a:xfrm>
            <a:off x="457200" y="3505320"/>
            <a:ext cx="826920" cy="963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әрес файдалы, барысы да аңлашы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Рамиль</cp:lastModifiedBy>
  <dcterms:modified xsi:type="dcterms:W3CDTF">2014-02-04T15:01:45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